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B99-DB6C-4518-9A5A-2F145428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271-718A-49ED-8998-467B50F4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959-A670-430B-A045-1E04AD94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EB0-99B8-423D-8447-B183C6C5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90B-462B-445B-8C71-77A7870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802-8943-45D6-9316-55FF373C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97B-052A-4F5A-AF1A-1E52AA6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43C-23D4-49C7-8FDA-B600EB08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8FC-A413-4B82-92A4-C5C9487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61F-5AC4-4D51-AAAE-DE169B1F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8E9-EE96-45BD-A315-B6FD96E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FAF-84DF-4A74-ACE7-FE277EC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5D99-D76F-40EC-B130-4EDA9D54B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5181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t rolled into the mean dogs bed!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球滚到坏狗的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uá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714680" y="1400040"/>
            <a:ext cx="5715000" cy="4057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 was very worried. He didn’t want to wake up the old do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很担心，他不想吵醒老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4572000" cy="377820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80773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sat and waited for Moses to wake up on his own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坐着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se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自己醒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ited and waited…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继续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never mov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狗动也没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tually Tubs started to get impatie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终于等不及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37414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74674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got up! Slowly he walked towards the Dogs bed. Being very quiet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起来了，他慢慢的爬向狗的床，他很安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23880" y="3359160"/>
            <a:ext cx="335304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woke up!!!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狗醒来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86160" cy="42577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barked at tubs saying, what are you do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叫说：你在做什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586040" cy="30956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was very scared. He asked may I please have my ball bac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很害怕，他问：我能不能把球拿回来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7696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ca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只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730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6934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96240" cy="4057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ld dog smiled and said “Sure,” and threw the ball back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老狗笑他说：好啊， 然后把球丢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76201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 wasn’t very mean afterall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所以狗没有那么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603600" cy="43243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Tub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名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23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was a young cat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ub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一只小猫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 rot="20866800">
            <a:off x="2327400" y="1981080"/>
            <a:ext cx="4181400" cy="440388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very playful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很调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lived with a dog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ub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起跟狗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 rot="21058200">
            <a:off x="5029200" y="2514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was Mose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狗的名字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es was a very mean and old dog 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se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 一个很凶和很老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6260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01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Tubs was playing with a little ball…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一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在玩一颗小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286000" y="2043000"/>
            <a:ext cx="4371840" cy="410076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4:53Z</dcterms:created>
  <dc:creator>itsuser</dc:creator>
  <dc:description/>
  <dc:language>en-US</dc:language>
  <cp:lastModifiedBy>itsuser</cp:lastModifiedBy>
  <dcterms:modified xsi:type="dcterms:W3CDTF">2009-04-14T16:26:24Z</dcterms:modified>
  <cp:revision>14</cp:revision>
  <dc:subject/>
  <dc:title>Tubs</dc:title>
</cp:coreProperties>
</file>